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E6B-652E-40EF-81A0-6DB54019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469-BAD9-4672-AF2C-AD26D0EE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402-ADB3-4C28-9E14-7C55F2B0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84E-C8F5-49F3-B503-E21BA880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FD89-C5C5-462B-81A3-190C7FDD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F88F-AA53-4B8B-9896-6F1777E5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B79D-ED0E-4124-B9B5-67389F3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2EC4-DE85-4AD6-9545-B1F3E9A2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8447-A080-4EC1-B8D7-54DB355B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A86D-F991-4085-9FAB-85192D7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744-3223-41A8-AF24-74311A4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272-AA59-4707-8023-E0859E3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724D-E936-40CD-A8DC-91A180C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A092-4F64-4D53-A77E-C45E6DF5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557-D942-410D-B80E-CC8EB78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7787-2EFB-44F3-A8BE-E52925EE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37DD-1AAA-40B3-87EB-8BFA9F89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548-22FB-4CD9-ACAB-60A03D21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3E1-86DB-4755-B563-49DE76E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872-C5B8-41FA-9485-95F4294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F16-4A2B-4C20-9975-F3BE36D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506-B614-415E-9CFC-625CFD6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0F7-4697-4054-A036-28EF512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C1D-BC97-442E-ACC3-19E8CA5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7891-7C6C-4193-959B-E95AE97635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943E-7189-4223-AF40-86C15BBAF19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Advantages in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Kunstler Script"/>
              </a:rPr>
              <a:t>By Jason Xia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split dir="out" orient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is now a free market economy and a democra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has a better chance at winning a war because of its win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ns get free health care and Russian made medic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It has great food there, that is inexpensive like squid salad, crab meat sal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Jobs aren’t very hard to fin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You can have a very good time in Russia from movies, clubs, theaters, operas, concerts, exhibitions, festivals, and fai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</a:rPr>
              <a:t>Advantages vs. dis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Monotype Corsiv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Monotype Corsiv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Brought to you b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Magdalena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Jason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and Jennif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0:50:55Z</dcterms:created>
  <dc:creator>QPS</dc:creator>
  <dc:description/>
  <dc:language>en-US</dc:language>
  <cp:lastModifiedBy> </cp:lastModifiedBy>
  <dcterms:modified xsi:type="dcterms:W3CDTF">2010-12-20T14:03:26Z</dcterms:modified>
  <cp:revision>6</cp:revision>
  <dc:subject/>
  <dc:title>Slide 1</dc:title>
</cp:coreProperties>
</file>